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4696-BBD1-47A9-8E8E-D0043161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4A73-AF7F-4257-AA39-C4617030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9A9B-AA21-4681-BAF7-80B99C8F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8EBD-2E2E-4F2A-BD4D-38A1D587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F48-BAAD-4A64-85F5-8C2821D7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65FA-C024-44C8-86FE-7AC48740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1737-64BA-4EDA-A9E6-2532F72D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210-ACA8-4DF0-AF61-FB88673B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E7FC-F067-4419-AB2F-AD677D78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E9E3-674D-4383-B705-A9D58234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AE24-D453-412C-A424-C32E72B7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CA99-C806-4F62-803B-3758B48A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BC6D-1F79-46C5-A37A-CB31D7A56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, Revised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s, Scope, Typ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Machine abst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middle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y code, linker, lo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back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6280" y="27939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28880" y="392580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04240" y="1330200"/>
            <a:ext cx="233280" cy="1403640"/>
          </a:xfrm>
          <a:custGeom>
            <a:avLst/>
            <a:gdLst>
              <a:gd name="textAreaLeft" fmla="*/ 0 w 233280"/>
              <a:gd name="textAreaRight" fmla="*/ 84240 w 233280"/>
              <a:gd name="textAreaTop" fmla="*/ 36360 h 1403640"/>
              <a:gd name="textAreaBottom" fmla="*/ 1367280 h 14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81160" y="17319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82000" y="4871880"/>
            <a:ext cx="198360" cy="128772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720"/>
              <a:gd name="textAreaBottom" fmla="*/ 1254240 h 12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2863800"/>
            <a:ext cx="183960" cy="965160"/>
          </a:xfrm>
          <a:custGeom>
            <a:avLst/>
            <a:gdLst>
              <a:gd name="textAreaLeft" fmla="*/ 0 w 183960"/>
              <a:gd name="textAreaRight" fmla="*/ 66240 w 183960"/>
              <a:gd name="textAreaTop" fmla="*/ 24840 h 965160"/>
              <a:gd name="textAreaBottom" fmla="*/ 9403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1320" y="468000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47080" y="4068720"/>
            <a:ext cx="207720" cy="514440"/>
          </a:xfrm>
          <a:custGeom>
            <a:avLst/>
            <a:gdLst>
              <a:gd name="textAreaLeft" fmla="*/ 0 w 207720"/>
              <a:gd name="textAreaRight" fmla="*/ 74880 w 20772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80800" y="309420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03200" y="426096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B862-9F68-4FB3-9074-7CEA088DE8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8T23:26:11Z</dcterms:modified>
  <cp:revision>292</cp:revision>
  <dc:subject/>
  <dc:title>Slide 1</dc:title>
</cp:coreProperties>
</file>